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89D-CA83-4AFC-8FBF-09DF4E19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971-9D21-4A25-A497-C6756A1A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448-6066-41C9-85A0-9D138057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F02-AAA6-4C42-BE86-C1D4CC79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04A-16E9-4B83-88DC-2EFA7FD4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868-4782-40CE-A885-3B9F669E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403-A26A-40A8-88AA-501FE868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E79-AC2A-4C4F-A390-EA5EB96F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85A-3497-4F0F-8438-9F0B2443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A53-1EED-4DF4-B527-3774740F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9AB-9CEA-4834-84E7-87B31134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758-1B7D-4291-85AB-465C5F28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BA29-4F0E-4D01-9EDD-FE84369E4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0040" y="2133720"/>
            <a:ext cx="716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ature’s Incredible Fire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 David L. Har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87520" y="1817640"/>
            <a:ext cx="7221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gure out how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arthquakes happ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9680" y="1969920"/>
            <a:ext cx="77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ere volcanoes fo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78880" y="1741320"/>
            <a:ext cx="765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the Pacific Oce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 call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4000" y="1676520"/>
            <a:ext cx="814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g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y Vesuvius i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ne of the most famo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olcano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7560" y="1676520"/>
            <a:ext cx="904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at helps us to 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en a volcano may erup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8800" y="1817640"/>
            <a:ext cx="9086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 o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three things we 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bout volcano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7680" y="1676520"/>
            <a:ext cx="8143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g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y volcanoes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nature’s firework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50920" y="1360440"/>
            <a:ext cx="640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nd out what 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olcanoes look lik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rom far awa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0200" y="1523880"/>
            <a:ext cx="65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nd out what blo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 melted rock 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ll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54120" y="1295280"/>
            <a:ext cx="770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gure out wh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olcanic explo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use floods, mu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ides, and avalanch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61560" y="1436760"/>
            <a:ext cx="747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y rivers of lav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low instead of 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xplosion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3840" y="1741320"/>
            <a:ext cx="747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ere lava flow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ro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72680" y="1447920"/>
            <a:ext cx="823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g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y some lava flow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wly and some flow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quickl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37880" y="2198520"/>
            <a:ext cx="747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the crust i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vered b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7680" y="1665360"/>
            <a:ext cx="765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at magma 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0:36:06Z</dcterms:created>
  <dc:creator>New User</dc:creator>
  <dc:description/>
  <dc:language>en-US</dc:language>
  <cp:lastModifiedBy>Rutherford County Schools</cp:lastModifiedBy>
  <dcterms:modified xsi:type="dcterms:W3CDTF">2007-04-21T15:27:08Z</dcterms:modified>
  <cp:revision>1</cp:revision>
  <dc:subject/>
  <dc:title>PowerPoint Presentation</dc:title>
</cp:coreProperties>
</file>